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8E4-1140-4D49-9F4E-5B7A3E61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829-FE00-4372-8ED2-2357DA4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15C-B0B2-4CF0-BE9F-0579B8D0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DD0-F241-460E-91DD-C263E7A0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565F-6DD5-46AF-9137-ADB7FF83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5F3-266C-4851-96B6-AAF6BD15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FD6-AC05-44F5-9E60-D94F08D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9CA2-3B3A-4799-BB66-A732CBA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B142-FE12-4DA2-8B67-77CEB9A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ABD4-03C7-423F-B80A-0C87B39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6093-1973-4C5F-A42A-87C6FF7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646-7A45-43B2-BD9F-DAF701A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0373-6A83-4185-82C8-9D5B03F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2EB-7D38-4F13-AB70-3925BF5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8B5C-B1EE-4A51-AD7D-CA59E58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771-F719-47C9-B5C1-00FB64B7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F81-B271-4BB2-8EC2-8D216752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B09-BE0D-46D8-AA8F-1FBC9E5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C65-9FAB-4191-BFD6-E918381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223-F304-4842-AD81-80D33A1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78D-3A7B-4EAC-AE85-2A3EA02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B70-F116-4E5E-8EEB-1BBE224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9CB-2080-4D3B-9E99-FBCD3B2B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9CB-2AB3-47DA-835D-115EE73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61760" y="6172200"/>
            <a:ext cx="373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A9E6-6260-415D-A278-E2069C8D0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249-7DCF-4D6F-85C1-8C4C37659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TRANSACTIONAL ANALYSIS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BRIEF OVER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ical parent is opposed to natural chil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rturing parent is supportive to natural chil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ical parent activates the Adapted Chil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possible to fight your Critical Parent(also called Pig Parent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 to Chi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 to pa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 to Ad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ult to Pa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ult to Ad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STROKES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that one person gives to anoth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ssential to a person's lif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n vary from actual physical touch to prai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MOST OF US SUFFER FROM STROKE HUNGER!!!!!!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itive Strokes- “I love you”, “ you did a good job”- Warm Fuzz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Strokes- “I hate you”- cold Prickl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positive strokes are not given, we look for negative strokes rather than be without strokes at all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should learn to open our hearts and ask for stro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makes life easi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here are five ways people can structure their time to get strokes: </a:t>
            </a:r>
            <a:br>
              <a:rPr sz="4200"/>
            </a:b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RITUALS, PASTIMES, GAMES, INTIMACY, WORK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RITUA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pre-set exchange of recognition strokes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"Hi!"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“How are you?"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"Fine, thanks."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"Well, see you around. Bye!"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is a four-stroke ritu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PASTIME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pre-set conversation around a certain subjec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astimes are most evident at cocktail parties and family get-togeth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ACH OF US IS REALLY THREE PEOPLE!!!!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Games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petitive, devious series of transactions intended to get strok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Unfortunately, the strokes obtained in games are mostly negativ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game is a failed method of getting strok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Intimacy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direct and powerful exchange of strokes which people crave but seldom at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Child is frightened away from it by hurtful experienc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Work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n activity which has a product as its resul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Good work results in the exchange of strokes as a side effec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RANSACTIONS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actions occur when any person relates to any other pers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hree types of transactions: COMPLEMENTARY,CROSSED &amp; COVER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very transaction is made up of a stimulus and respons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Complementary Transaction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etween Adult and Ad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arent to Chil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arent to Pa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ion can continue between ego states as long as trans-actions are paralle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Whenever a disruption of communication occurs, a crossed transaction caused i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ross Transaction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three or more ego states are involv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nsactional response is addressed to an ego state different from the one which started the stimul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y disrupt communic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Discount Transaction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One very important kind of crossed transa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Here one person completely disregards what the other one i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ying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iscounts are not always obvious but are always unpleasan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Covert Transactions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covert transaction is when people say one thing and mean anoth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re the basis of games and are especially interesting because they are crooked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y have a social (overt) and a psychological (covert) leve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WHY DON’T YOU, YES BUT (YDYB,) RAPO, AND THEIR PAYOFFS. </a:t>
            </a:r>
            <a:br>
              <a:rPr sz="4200"/>
            </a:b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THREE MODES OF BEHAVIOR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are called EGO ST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Felt states of being and not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st ro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PAYOFFS OF GAMES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biological pay-off is strok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social pay-off of a game is time-structuring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istential pay-off of a game is the way in which the game confirms the existential position of each play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RACKETS &amp; STAMPS </a:t>
            </a:r>
            <a:br>
              <a:rPr sz="4200"/>
            </a:b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eople collect psychological trading stamps to be trad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in for a divorce, a suicide, a drug binge or a blow-up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ROLES &amp; DEGREES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hree basic game roles are Persecutor, Rescuer, and Victi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Games can be played soft or har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URNING PEOPLE INTO FROGS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eople are born princes and princess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ir parents turn them into frog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arents script their childre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IT IS POSSIBLE TO DISCARD YOUR SCRIPT AND WRITE A NEW ONE AUTONOMOUSLY!!!!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SCRIPT CHECKLIST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Life course. What short sentence best describes the person's lif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unterscript. This is a period of life dominated by the Parent. What does the person do when he seems to be escaping the life-cours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arental Injunction. In what way did the Child in mother and father interfere with the person's OK-nes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Game. Every script is based on a major ga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time. How does a person structure most of their spare time with other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he Tragic Ending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tremist, self-destructive scrip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anal scrip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he Therapist's Role.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good therapist is aware of roles and how to avoid the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GOOD AND BAD GAMES and SCRIPTS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ven though games are crooked they can sometimes be usefu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ertain scripts may have socially redeeming featur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hild Ego Stat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ural Child(PRINCE)- Hateful/ loving/ spontaneous/ playf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uitive Child(LITTLE PROFESSOR)- Thoughtful/ imaginative/ cre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ed Child(FROG)- fearful/ guilty/ ash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THREE P’s; PERMISSION, PROTECTION, </a:t>
            </a:r>
            <a:br>
              <a:rPr sz="4200"/>
            </a:b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POTENCY</a:t>
            </a:r>
            <a:br>
              <a:rPr sz="4200"/>
            </a:b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Parent Ego State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collection of pre-recorded, pre-judged, prejudiced codes for living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ecides, without reasoning, how to react to situ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over-controlling and oppressive or life giving, supportive and tend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verly Critical- Critical pa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ving and nurturing the child- Nurturing pa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dult Ego Stat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Has no emotio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able to detach from feeling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ic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ontamination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When the Adult uses information which has its source in the Child or in the Parent and which may be incorrec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ejudi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Voices in the head!!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al Tapes being played over in our mi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may be good or bad depending on which parent’s tapes we are play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4:01:20Z</dcterms:created>
  <dc:creator/>
  <dc:description/>
  <dc:language>en-US</dc:language>
  <cp:lastModifiedBy>Bright</cp:lastModifiedBy>
  <dcterms:modified xsi:type="dcterms:W3CDTF">2013-08-23T10:08:13Z</dcterms:modified>
  <cp:revision>2</cp:revision>
  <dc:subject/>
  <dc:title>TRANSACTIONAL ANALYSIS</dc:title>
</cp:coreProperties>
</file>